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AE4F-690E-453D-97F0-F5A227D4D89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5DE2-5607-48B6-976E-526AAA22D3B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DDF1-E164-4668-BA50-82E7C894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5C5E-EC5B-49F5-B246-5E448B48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E733-3923-432A-9704-04105BF5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2827-3A80-4736-92AD-B51B65EB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5739-2E89-42CD-8BD3-5F1647CE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F17C-B43A-4BC8-B264-65F29201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1425-1975-4EE9-A7DF-74B64A1C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082F-8670-4499-BB54-4A99C52A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189A-947F-481F-910D-0CC69C7E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71DD-8067-4A8D-82BE-36CB9007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95AE-5389-42C2-A18C-3D505668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F4D2-C089-490D-9E7A-09A6ED05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F180-8864-4D31-872D-8DA2E210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1604-A61E-48FC-9800-1DEB6DBA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6436-68DF-4FC6-B1C5-1D6C109A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8D9E-BD88-4316-9D86-6A656ABF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AE5A-2E55-4B90-98E9-808E0CFD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61C3F-0034-43B4-8242-1ED58022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BA368-7D2C-4F94-AB59-E5678CB2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06E60-2C30-4447-B1A3-7F80A4A6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BFBB5-BB50-4B97-AD57-19CB30DC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7BE1F-9E0D-4695-956C-19C04AEA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E2A8-3688-4D41-B702-504AED4B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73976-3978-424A-AD77-DF152484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628A6-9B1B-4F0A-9857-1AE7C133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436A0-45BB-4664-B893-C9753A49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9AD83-A59A-47C5-B6F6-20C51CFC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DF803-E039-4A21-B8F7-5FF59515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BEDBC-B468-4FBC-BD0E-0B066BCD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9D293-A1BB-4312-BAFA-0820BF0E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34AAD-A6AD-4E1E-A2FB-6A3096D6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C5BCB-725E-449B-938D-B78B726F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8D1EC-7A5E-4B12-A225-5211B8C5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4140-19C3-41E6-A3CC-94780373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E9F11-0D25-4B67-BC02-8B6A4378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D2CD4-85DC-45F7-9636-11EBF487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E4B61-E559-4B91-B443-142DC774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F468B-2C9F-4FFA-9A2F-7043A7AA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E33FA-36B6-4D2A-9D75-BEA3BE75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EEC29-5A2F-4F96-AD6F-66F93F6F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68EF1-0C15-446F-9E8C-9408F7F3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6354B-1837-456F-8305-84D08FAA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C009C-F79B-49E7-8FC2-85C0E919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E0D4D-53D1-41EB-B799-95125FCA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464B-CEE1-4F72-B77B-58C71B06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85E2A-9D80-4007-829B-6A74A714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57DDC-95A6-408B-B0E3-7C6442EA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B07A4-DB24-429B-B984-89E236AF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FD705-A88B-47DF-BE39-EA8DDF54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7261D-875B-4FD4-95CE-74B1F69A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25951-2CA4-46AB-ADF5-8BAE347B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2A0AA-B0C2-43F8-853B-780BB3C5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36E4A-E167-446C-AD31-DA6DB27E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B659A-D171-407A-A4B6-389359A9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A6201-27D8-4768-BA1E-C226DC45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0C93-C683-497F-9F78-7FDA4745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31B28-B171-4444-BB81-75DD4253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1E088-09DF-4491-86BC-266D3599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3A6AD-792E-40E4-97E6-01AB419C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EA9ED-6BF3-4B5D-9E52-25F17B4A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61737-6827-48EE-9439-1819A506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5D154-B12E-44F5-8A17-CE24E5D2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1E654-E180-49AC-9B5B-E46FADF4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BF5FE-539C-4F39-9342-D1389482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953CD-B150-4152-BBF0-7EC9FEA3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B1345-0D32-4514-BCEC-17BE512E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B338-79E9-4B6F-B2C4-05ED7879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75EEA-0B28-4285-A730-D0329BD8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2F2D8-D8C4-4479-A38C-60D23AFF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F0EE2-250B-4DAE-A44D-A1D60F8E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6789-3B89-4611-97E8-9C96B472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6876-8E78-4EC1-AF12-F9B726E6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CEC6-9E95-4E53-A066-C9705B4C918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87F9-1BFA-4CAA-8236-7C2177CEC69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48B7-9449-408C-8BD9-9232F1E06383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1706-30CF-4C42-A0EB-91B457E12A86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062E-C22A-43FB-A430-8E452C48BADC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61AE-9846-4740-BF69-A576F4153AD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0278-0260-471F-8B5E-E2DF9B2EEB0A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7F50-7CF3-4EF6-B603-0B1446C047B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BDAF-28BB-49B1-ABDE-F58979B0C8DC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222A-766B-47C8-9CCA-32E05664CC0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B137-E038-421A-9F86-DB4CCBC56B12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E76E-6370-4CE0-81EE-FE3D5298D77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7029360"/>
            <a:ext cx="12187080" cy="71640"/>
          </a:xfrm>
          <a:prstGeom prst="rect">
            <a:avLst/>
          </a:prstGeom>
          <a:ln w="0">
            <a:noFill/>
          </a:ln>
        </p:spPr>
      </p:pic>
      <p:sp>
        <p:nvSpPr>
          <p:cNvPr id="273" name="Título 1"/>
          <p:cNvSpPr/>
          <p:nvPr/>
        </p:nvSpPr>
        <p:spPr>
          <a:xfrm>
            <a:off x="627120" y="1341360"/>
            <a:ext cx="109411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a8ef2"/>
                </a:solidFill>
                <a:latin typeface="Calibri"/>
              </a:rPr>
              <a:t>CRÉDITO CONSIGN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42852"/>
                </a:solidFill>
                <a:latin typeface="Calibri"/>
              </a:rPr>
              <a:t>Brasília – DF, setembr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sp>
        <p:nvSpPr>
          <p:cNvPr id="275" name="Título 1"/>
          <p:cNvSpPr/>
          <p:nvPr/>
        </p:nvSpPr>
        <p:spPr>
          <a:xfrm>
            <a:off x="334800" y="701640"/>
            <a:ext cx="11247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axa Selic, Taxa de Empréstimo Consignado e Cartão de Créd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Imagem 1" descr=""/>
          <p:cNvPicPr/>
          <p:nvPr/>
        </p:nvPicPr>
        <p:blipFill>
          <a:blip r:embed="rId2"/>
          <a:stretch/>
        </p:blipFill>
        <p:spPr>
          <a:xfrm>
            <a:off x="334800" y="1549440"/>
            <a:ext cx="11449080" cy="4956120"/>
          </a:xfrm>
          <a:prstGeom prst="rect">
            <a:avLst/>
          </a:prstGeom>
          <a:ln w="0">
            <a:noFill/>
          </a:ln>
        </p:spPr>
      </p:pic>
      <p:sp>
        <p:nvSpPr>
          <p:cNvPr id="277" name="Retângulo 2"/>
          <p:cNvSpPr/>
          <p:nvPr/>
        </p:nvSpPr>
        <p:spPr>
          <a:xfrm>
            <a:off x="334800" y="1055520"/>
            <a:ext cx="1109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4a66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a66ac"/>
                </a:solidFill>
                <a:latin typeface="Arial"/>
                <a:ea typeface="Times New Roman"/>
              </a:rPr>
              <a:t>De acordo com a ata do COPOM, a taxa SELIC deverá fechar o ano de 2017 em 7,25%, com previsão de chegar a 7,0%, no início de 201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tângulo 6"/>
          <p:cNvSpPr/>
          <p:nvPr/>
        </p:nvSpPr>
        <p:spPr>
          <a:xfrm>
            <a:off x="407880" y="6505560"/>
            <a:ext cx="22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Banco Cent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pic>
        <p:nvPicPr>
          <p:cNvPr id="280" name="Imagem 1" descr=""/>
          <p:cNvPicPr/>
          <p:nvPr/>
        </p:nvPicPr>
        <p:blipFill>
          <a:blip r:embed="rId2"/>
          <a:stretch/>
        </p:blipFill>
        <p:spPr>
          <a:xfrm>
            <a:off x="334800" y="2205000"/>
            <a:ext cx="11449080" cy="4392720"/>
          </a:xfrm>
          <a:prstGeom prst="rect">
            <a:avLst/>
          </a:prstGeom>
          <a:ln w="0">
            <a:noFill/>
          </a:ln>
        </p:spPr>
      </p:pic>
      <p:sp>
        <p:nvSpPr>
          <p:cNvPr id="281" name="Retângulo 3"/>
          <p:cNvSpPr/>
          <p:nvPr/>
        </p:nvSpPr>
        <p:spPr>
          <a:xfrm>
            <a:off x="334800" y="657360"/>
            <a:ext cx="1123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alor Acumulado das Operações de Crédito realizadas por Instituições Financeiras com Aposentados e Pensionistas do INSS – Junho de 2015 a maio de 2017 – Valor da Operação em Milhares Corr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tângulo 4"/>
          <p:cNvSpPr/>
          <p:nvPr/>
        </p:nvSpPr>
        <p:spPr>
          <a:xfrm>
            <a:off x="407880" y="6581880"/>
            <a:ext cx="22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IN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tângulo 2"/>
          <p:cNvSpPr/>
          <p:nvPr/>
        </p:nvSpPr>
        <p:spPr>
          <a:xfrm>
            <a:off x="365040" y="1185840"/>
            <a:ext cx="1123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4a66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a66ac"/>
                </a:solidFill>
                <a:latin typeface="Arial"/>
                <a:ea typeface="Times New Roman"/>
              </a:rPr>
              <a:t>É importante destacar que, apesar das oscilações observadas na Selic, verifica-se desde novembro de 2016 uma tendência de queda nessa taxa e esse é um dos fatores, juntamente com o baixíssimo risco que essa modalidade de empréstimo oferece às instituições bancárias, para reduzir o teto dos empréstimos consignados do atual patam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3"/>
          <p:cNvSpPr/>
          <p:nvPr/>
        </p:nvSpPr>
        <p:spPr>
          <a:xfrm>
            <a:off x="334800" y="723960"/>
            <a:ext cx="108014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Carteira Consignado Porta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" descr=""/>
          <p:cNvPicPr/>
          <p:nvPr/>
        </p:nvPicPr>
        <p:blipFill>
          <a:blip r:embed="rId1"/>
          <a:stretch/>
        </p:blipFill>
        <p:spPr>
          <a:xfrm>
            <a:off x="314280" y="2066760"/>
            <a:ext cx="11017440" cy="4537080"/>
          </a:xfrm>
          <a:prstGeom prst="rect">
            <a:avLst/>
          </a:prstGeom>
          <a:ln w="0">
            <a:noFill/>
          </a:ln>
        </p:spPr>
      </p:pic>
      <p:sp>
        <p:nvSpPr>
          <p:cNvPr id="286" name="Retângulo 12"/>
          <p:cNvSpPr/>
          <p:nvPr/>
        </p:nvSpPr>
        <p:spPr>
          <a:xfrm>
            <a:off x="407880" y="6505560"/>
            <a:ext cx="22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Banco Cent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tângulo 3"/>
          <p:cNvSpPr/>
          <p:nvPr/>
        </p:nvSpPr>
        <p:spPr>
          <a:xfrm>
            <a:off x="314280" y="1052640"/>
            <a:ext cx="1118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a66ac"/>
                </a:solidFill>
                <a:latin typeface="Arial"/>
                <a:ea typeface="Times New Roman"/>
              </a:rPr>
              <a:t>Percebe-se um aumento nos pedidos de portabilidade em todas as modalidades e a explicação provável são os cortes da Selic verificados recentemente, ou seja, com a redução da SELIC, ocorre diminuição nos custos de captação de emprésti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sp>
        <p:nvSpPr>
          <p:cNvPr id="289" name="Título 1"/>
          <p:cNvSpPr/>
          <p:nvPr/>
        </p:nvSpPr>
        <p:spPr>
          <a:xfrm>
            <a:off x="334800" y="701640"/>
            <a:ext cx="112474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Quantidade de empréstimos consignados averbados, por aposentados por invalidez, em 2017 (janeiro a agosto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Imagem 2" descr=""/>
          <p:cNvPicPr/>
          <p:nvPr/>
        </p:nvPicPr>
        <p:blipFill>
          <a:blip r:embed="rId2"/>
          <a:stretch/>
        </p:blipFill>
        <p:spPr>
          <a:xfrm>
            <a:off x="1055520" y="2652840"/>
            <a:ext cx="9361800" cy="3627360"/>
          </a:xfrm>
          <a:prstGeom prst="rect">
            <a:avLst/>
          </a:prstGeom>
          <a:ln w="0">
            <a:noFill/>
          </a:ln>
        </p:spPr>
      </p:pic>
      <p:sp>
        <p:nvSpPr>
          <p:cNvPr id="291" name="Retângulo 4"/>
          <p:cNvSpPr/>
          <p:nvPr/>
        </p:nvSpPr>
        <p:spPr>
          <a:xfrm>
            <a:off x="407880" y="6505560"/>
            <a:ext cx="22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IN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tângulo 1"/>
          <p:cNvSpPr/>
          <p:nvPr/>
        </p:nvSpPr>
        <p:spPr>
          <a:xfrm>
            <a:off x="407880" y="1413000"/>
            <a:ext cx="1130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4a66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a66ac"/>
                </a:solidFill>
                <a:latin typeface="Arial"/>
                <a:ea typeface="Times New Roman"/>
              </a:rPr>
              <a:t>Analisando os dados de consignados realizados por aposentados por invalidez, percebe-se que mais de 60% desses empréstimos são destinados a pessoas com 60 anos ou mais, e estes não estão comtemplados na revisão dos benefíci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sp>
        <p:nvSpPr>
          <p:cNvPr id="294" name="Título 1"/>
          <p:cNvSpPr/>
          <p:nvPr/>
        </p:nvSpPr>
        <p:spPr>
          <a:xfrm>
            <a:off x="334800" y="765000"/>
            <a:ext cx="11522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BENEFICIÁRIOS DAS ESPÉCIES 32 E 92 COM MENOS DE 60 ANOS NA MACIÇA DE AGOSTO DE 201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2" descr=""/>
          <p:cNvPicPr/>
          <p:nvPr/>
        </p:nvPicPr>
        <p:blipFill>
          <a:blip r:embed="rId2"/>
          <a:stretch/>
        </p:blipFill>
        <p:spPr>
          <a:xfrm>
            <a:off x="473040" y="1484280"/>
            <a:ext cx="11246040" cy="4392720"/>
          </a:xfrm>
          <a:prstGeom prst="rect">
            <a:avLst/>
          </a:prstGeom>
          <a:ln w="0">
            <a:noFill/>
          </a:ln>
        </p:spPr>
      </p:pic>
      <p:sp>
        <p:nvSpPr>
          <p:cNvPr id="296" name="Retângulo 4"/>
          <p:cNvSpPr/>
          <p:nvPr/>
        </p:nvSpPr>
        <p:spPr>
          <a:xfrm>
            <a:off x="407880" y="6505560"/>
            <a:ext cx="22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IN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sp>
        <p:nvSpPr>
          <p:cNvPr id="298" name="Título 1"/>
          <p:cNvSpPr/>
          <p:nvPr/>
        </p:nvSpPr>
        <p:spPr>
          <a:xfrm>
            <a:off x="334800" y="701640"/>
            <a:ext cx="112474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ATOS ATIVOS ATÉ PRIMEIRA SEMANA DE SETEMBRO/2017 E CONTRATOS REALIZADOS POR APOSENTADOS POR INVALIDEZ, COM IDADE ABAIXO DE 60 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Imagem 6" descr=""/>
          <p:cNvPicPr/>
          <p:nvPr/>
        </p:nvPicPr>
        <p:blipFill>
          <a:blip r:embed="rId2"/>
          <a:stretch/>
        </p:blipFill>
        <p:spPr>
          <a:xfrm>
            <a:off x="1055520" y="1587600"/>
            <a:ext cx="10080720" cy="4721040"/>
          </a:xfrm>
          <a:prstGeom prst="rect">
            <a:avLst/>
          </a:prstGeom>
          <a:ln w="0">
            <a:noFill/>
          </a:ln>
        </p:spPr>
      </p:pic>
      <p:sp>
        <p:nvSpPr>
          <p:cNvPr id="300" name="Retângulo 8"/>
          <p:cNvSpPr/>
          <p:nvPr/>
        </p:nvSpPr>
        <p:spPr>
          <a:xfrm>
            <a:off x="407880" y="6505560"/>
            <a:ext cx="22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IN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sp>
        <p:nvSpPr>
          <p:cNvPr id="302" name="Retângulo 2"/>
          <p:cNvSpPr/>
          <p:nvPr/>
        </p:nvSpPr>
        <p:spPr>
          <a:xfrm>
            <a:off x="334800" y="765000"/>
            <a:ext cx="100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tângulo 3"/>
          <p:cNvSpPr/>
          <p:nvPr/>
        </p:nvSpPr>
        <p:spPr>
          <a:xfrm>
            <a:off x="479520" y="1268280"/>
            <a:ext cx="10585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 o objetivo de combater fraudes, evitar endividamento excessivo e disciplinar a utilização do cartão de crédito, o INSS estabeleceu, em maio de 2008, novas regras de utilização dos empréstimos consignados. As principais medidas foram: a proibição às instituições de operarem com beneficiários de outros estados; obrigatoriedade de crédito na conta em que o benefício é recebido; limite de crédito no cartão passa de três para duas vezes o valor do benefício; proibição às instituições de oferecer financiamento pelo plano de crédito consignado com prazo de carê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s determinações de ajuste procedidas pelo então MPS nesse programa de crédito têm gerado resultados positivos. Desde a eliminação da TAC, passando por várias reduções de teto de juros, até as últimas medidas para garantir maior segurança ao emprésti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o que diz respeito à possibilidade de empréstimos por meio do cartão benefício, o INSS já está desenvolvendo um sistema para Empréstimos Consignados Online – ECO que deverá contemplar essa possibl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pic>
        <p:nvPicPr>
          <p:cNvPr id="305" name="Imagem 1" descr=""/>
          <p:cNvPicPr/>
          <p:nvPr/>
        </p:nvPicPr>
        <p:blipFill>
          <a:blip r:embed="rId2"/>
          <a:stretch/>
        </p:blipFill>
        <p:spPr>
          <a:xfrm>
            <a:off x="738360" y="2637000"/>
            <a:ext cx="10440720" cy="3528720"/>
          </a:xfrm>
          <a:prstGeom prst="rect">
            <a:avLst/>
          </a:prstGeom>
          <a:ln w="0">
            <a:noFill/>
          </a:ln>
        </p:spPr>
      </p:pic>
      <p:sp>
        <p:nvSpPr>
          <p:cNvPr id="306" name="Retângulo 2"/>
          <p:cNvSpPr/>
          <p:nvPr/>
        </p:nvSpPr>
        <p:spPr>
          <a:xfrm>
            <a:off x="407880" y="1282680"/>
            <a:ext cx="1087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4a66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a66ac"/>
                </a:solidFill>
                <a:latin typeface="Arial"/>
                <a:ea typeface="Times New Roman"/>
              </a:rPr>
              <a:t>Em relação à solicitação de readequação da taxa atual de juros, a sugestão é que a taxa de empréstimos consignados passe para 2,08%, e do cartão de crédito para 3,0%, pelos motivos expos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tângulo 7"/>
          <p:cNvSpPr/>
          <p:nvPr/>
        </p:nvSpPr>
        <p:spPr>
          <a:xfrm>
            <a:off x="334800" y="692280"/>
            <a:ext cx="108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AÇÕES                                                                       02/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6-11-07T18:06:02Z</cp:lastPrinted>
  <dcterms:modified xsi:type="dcterms:W3CDTF">2017-09-27T15:34:11Z</dcterms:modified>
  <cp:revision>391</cp:revision>
  <dc:subject/>
  <dc:title>Demografia</dc:title>
</cp:coreProperties>
</file>